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780-3CBA-4BB4-853F-0D931D03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4F0-49A0-4920-9C0E-243CC6C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085-E9AD-4ED9-ABB1-3D5D2E60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44D-AF60-4243-B9AE-7169C7FC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9B3D-48E2-4414-9CD8-F8E72DD0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D505-3047-4768-928D-42C6B02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4C88-41F5-4EFC-A566-265F84CD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53FC-C3A9-4905-9D91-F6229281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5948-6BE9-4043-A74E-6D24A2A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F1CD-0CE4-463B-957A-EB94D1F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EDEE-D798-485E-99EB-A40B737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500-CB82-4B75-BEB5-D8211A53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5361-2268-4F1A-8E21-AB9A9ECF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AC38-DD27-431A-859B-A1C2A7C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999B-023E-40C4-842A-F17FD9D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F7D9-EEFD-44E1-8453-EB13D6BB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9E43-BAC5-4EEA-8D0D-47BBFB33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34C-5AEC-4F17-8025-1ED7C23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70C-9E83-4937-B98D-6523D377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8A7-E325-4FF6-8ED2-4460324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0CD-35D2-45C7-A54C-AED3115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E28B-7947-4926-87D3-4B80A43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094-55BD-4EF8-88C8-7DC906B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31B-2F91-4C6C-A78A-123DC6B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598F-5737-488B-9676-63570865F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CE2-354D-43DD-A893-9C09B921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p, Hip Hooray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cheer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Hip, Hip Hooray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wing hips from one side to the other while saying the letters in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hrow their hands in the air and say the word again, then shout 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7:40Z</dcterms:modified>
  <cp:revision>6</cp:revision>
  <dc:subject/>
  <dc:title>Basket Ball Vocabulary Introducing vocabulary idea, from Mentoring Minds</dc:title>
</cp:coreProperties>
</file>